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6012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880" y="1711440"/>
            <a:ext cx="86407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880" y="3927240"/>
            <a:ext cx="86407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9880" y="17114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7520" y="17114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880" y="39272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907520" y="39272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9880" y="1711440"/>
            <a:ext cx="2782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01280" y="1711440"/>
            <a:ext cx="2782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323040" y="1711440"/>
            <a:ext cx="2782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880" y="3927240"/>
            <a:ext cx="2782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401280" y="3927240"/>
            <a:ext cx="2782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323040" y="3927240"/>
            <a:ext cx="2782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79880" y="1711440"/>
            <a:ext cx="86407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9880" y="1711440"/>
            <a:ext cx="86407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79880" y="1711440"/>
            <a:ext cx="42163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07520" y="1711440"/>
            <a:ext cx="42163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79880" y="291600"/>
            <a:ext cx="864072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79880" y="17114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7520" y="1711440"/>
            <a:ext cx="42163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79880" y="39272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79880" y="1711440"/>
            <a:ext cx="86407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79880" y="1711440"/>
            <a:ext cx="42163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7520" y="17114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07520" y="39272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79880" y="17114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7520" y="17114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9880" y="3927240"/>
            <a:ext cx="86407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79880" y="1711440"/>
            <a:ext cx="86407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880" y="3927240"/>
            <a:ext cx="86407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79880" y="17114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7520" y="17114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9880" y="39272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907520" y="39272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79880" y="1711440"/>
            <a:ext cx="2782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01280" y="1711440"/>
            <a:ext cx="2782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23040" y="1711440"/>
            <a:ext cx="2782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9880" y="3927240"/>
            <a:ext cx="2782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01280" y="3927240"/>
            <a:ext cx="2782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23040" y="3927240"/>
            <a:ext cx="2782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79880" y="1711440"/>
            <a:ext cx="86407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9880" y="1711440"/>
            <a:ext cx="42163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907520" y="1711440"/>
            <a:ext cx="42163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79880" y="291600"/>
            <a:ext cx="864072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9880" y="17114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7520" y="1711440"/>
            <a:ext cx="42163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79880" y="39272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880" y="1711440"/>
            <a:ext cx="42163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520" y="17114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07520" y="39272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880" y="17114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520" y="17114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880" y="3927240"/>
            <a:ext cx="86407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7160" y="6989760"/>
            <a:ext cx="66531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Copyright 2010, Oracle. All Rights Reserved. This document is provided for information purposes onl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227160" y="6989760"/>
            <a:ext cx="66531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Copyright 2010, Oracle. All Rights Reserved. This document is provided for information purposes onl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239760" y="812880"/>
            <a:ext cx="9201240" cy="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209520" y="96840"/>
            <a:ext cx="3281400" cy="2142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79880" y="1711440"/>
            <a:ext cx="86407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365040" indent="0" algn="ctr">
              <a:spcBef>
                <a:spcPts val="5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lvl="2" marL="787320" algn="ctr">
              <a:spcBef>
                <a:spcPts val="476"/>
              </a:spcBef>
              <a:buClr>
                <a:srgbClr val="003366"/>
              </a:buClr>
              <a:buFont typeface="Wingdings" charset="2"/>
              <a:buChar char="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lvl="3" marL="1208160" algn="ctr"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lvl="4" marL="1519200" algn="ctr"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lvl="5" marL="151920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lvl="6" marL="151920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3200" y="325440"/>
            <a:ext cx="6400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Quick Guide</a:t>
            </a:r>
            <a:r>
              <a:rPr b="1" lang="en-US" sz="2100" spc="-1" strike="noStrike">
                <a:solidFill>
                  <a:srgbClr val="7f7f7f"/>
                </a:solidFill>
                <a:latin typeface="Arial"/>
              </a:rPr>
              <a:t> Creating Custom Them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9760" y="812880"/>
            <a:ext cx="9201240" cy="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632080" y="7056360"/>
            <a:ext cx="71712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1 of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9760" y="97416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7f7f7f"/>
                </a:solidFill>
                <a:latin typeface="Arial"/>
                <a:ea typeface="ＭＳ 明朝"/>
              </a:rPr>
              <a:t>Theme Detail Field Guide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8160" y="1712880"/>
            <a:ext cx="9469440" cy="5119560"/>
            <a:chOff x="38160" y="1712880"/>
            <a:chExt cx="9469440" cy="511956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1185840" y="2197080"/>
              <a:ext cx="7296120" cy="43099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84" name=""/>
            <p:cNvSpPr/>
            <p:nvPr/>
          </p:nvSpPr>
          <p:spPr>
            <a:xfrm flipV="1">
              <a:off x="6896160" y="2084040"/>
              <a:ext cx="487440" cy="43812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219800" y="1712880"/>
              <a:ext cx="214344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 algn="ctr"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active Tab Backgrou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radient (Top, Bottom) &amp; Ho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967040" y="2043000"/>
              <a:ext cx="590400" cy="71280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32080" y="1814400"/>
              <a:ext cx="102708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 algn="ctr"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ge 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560" y="5207040"/>
              <a:ext cx="1134720" cy="70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 algn="ctr"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ge Backgrou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radient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Top, Bottom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08000" y="5487840"/>
              <a:ext cx="1752840" cy="28908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1004760" y="5049720"/>
              <a:ext cx="1067040" cy="43344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81000" y="2504880"/>
              <a:ext cx="403200" cy="40500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5680" y="2328840"/>
              <a:ext cx="99216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 algn="ctr"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ge Header 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87480" y="2511360"/>
              <a:ext cx="1438200" cy="45252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160" y="3184560"/>
              <a:ext cx="1015920" cy="70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 algn="ctr"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ge Header Backgrou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radient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Top, Bottom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98560" y="3527280"/>
              <a:ext cx="2754360" cy="40320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98560" y="3527280"/>
              <a:ext cx="809640" cy="59040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46680" y="1757160"/>
              <a:ext cx="177948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 algn="ctr"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ctive Tab Text/Backgrou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00600" y="1976400"/>
              <a:ext cx="439560" cy="53640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537400" y="2379600"/>
              <a:ext cx="9702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 algn="ctr"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in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83680" y="2340000"/>
              <a:ext cx="287280" cy="14904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13720" y="3485880"/>
              <a:ext cx="8906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 algn="ctr"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ge Lin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5902200" y="3630240"/>
              <a:ext cx="2802240" cy="14436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00920" y="3124080"/>
              <a:ext cx="2611440" cy="50328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282160" y="2776320"/>
              <a:ext cx="428400" cy="84636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91400" y="1743120"/>
              <a:ext cx="116532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8240" bIns="48240" anchor="t">
              <a:spAutoFit/>
            </a:bodyPr>
            <a:p>
              <a:pPr algn="ctr"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active Tab 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54800" y="1966680"/>
              <a:ext cx="0" cy="60984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04080" y="6559560"/>
              <a:ext cx="123048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 algn="ctr"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pplication Lin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75440" y="6451560"/>
              <a:ext cx="1703160" cy="24444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564320" y="5932440"/>
              <a:ext cx="319320" cy="76356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9760" y="4833720"/>
              <a:ext cx="75708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 algn="ctr"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lert 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922320" y="4430160"/>
              <a:ext cx="1444680" cy="56196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9440" y="6099120"/>
              <a:ext cx="99216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 algn="ctr"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pplication Backgrou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950760" y="6164280"/>
              <a:ext cx="987480" cy="11088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3280" y="6583320"/>
              <a:ext cx="115272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 algn="ctr"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pplication 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285920" y="6264000"/>
              <a:ext cx="2630520" cy="42408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0200" y="1204920"/>
            <a:ext cx="9204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ch your corporate branding and aesthetics by customizing colors, tab styles, links, and logos. Use this guide when customizing fields on the Theme Detail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3200" y="325440"/>
            <a:ext cx="6400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Quick Guide</a:t>
            </a:r>
            <a:r>
              <a:rPr b="1" lang="en-US" sz="2100" spc="-1" strike="noStrike">
                <a:solidFill>
                  <a:srgbClr val="7f7f7f"/>
                </a:solidFill>
                <a:latin typeface="Arial"/>
              </a:rPr>
              <a:t> Creating Custom Them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9760" y="812880"/>
            <a:ext cx="9201240" cy="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0200" y="1011240"/>
            <a:ext cx="8961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is guide when customizing the fields on your Theme Detail pag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632080" y="7056360"/>
            <a:ext cx="71712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2 of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9760" y="97416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7f7f7f"/>
                </a:solidFill>
                <a:latin typeface="Arial"/>
                <a:ea typeface="ＭＳ 明朝"/>
              </a:rPr>
              <a:t>Theme Detail Field Guide 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25360" y="1711440"/>
            <a:ext cx="8898120" cy="4451400"/>
            <a:chOff x="225360" y="1711440"/>
            <a:chExt cx="8898120" cy="4451400"/>
          </a:xfrm>
        </p:grpSpPr>
        <p:grpSp>
          <p:nvGrpSpPr>
            <p:cNvPr id="123" name=""/>
            <p:cNvGrpSpPr/>
            <p:nvPr/>
          </p:nvGrpSpPr>
          <p:grpSpPr>
            <a:xfrm>
              <a:off x="3952800" y="4487760"/>
              <a:ext cx="4241880" cy="1675080"/>
              <a:chOff x="3952800" y="4487760"/>
              <a:chExt cx="4241880" cy="1675080"/>
            </a:xfrm>
          </p:grpSpPr>
          <p:sp>
            <p:nvSpPr>
              <p:cNvPr id="124" name=""/>
              <p:cNvSpPr/>
              <p:nvPr/>
            </p:nvSpPr>
            <p:spPr>
              <a:xfrm>
                <a:off x="4397400" y="4840200"/>
                <a:ext cx="826920" cy="125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8240" bIns="48240" anchor="t">
                <a:spAutoFit/>
              </a:bodyPr>
              <a:p>
                <a:pPr>
                  <a:spcBef>
                    <a:spcPts val="62"/>
                  </a:spcBef>
                  <a:spcAft>
                    <a:spcPts val="62"/>
                  </a:spcAft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raigh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62"/>
                  </a:spcBef>
                  <a:spcAft>
                    <a:spcPts val="62"/>
                  </a:spcAft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62"/>
                  </a:spcBef>
                  <a:spcAft>
                    <a:spcPts val="62"/>
                  </a:spcAft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62"/>
                  </a:spcBef>
                  <a:spcAft>
                    <a:spcPts val="62"/>
                  </a:spcAft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ounde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62"/>
                  </a:spcBef>
                  <a:spcAft>
                    <a:spcPts val="62"/>
                  </a:spcAft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62"/>
                  </a:spcBef>
                  <a:spcAft>
                    <a:spcPts val="62"/>
                  </a:spcAft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62"/>
                  </a:spcBef>
                  <a:spcAft>
                    <a:spcPts val="62"/>
                  </a:spcAft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acke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952800" y="4487760"/>
                <a:ext cx="840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840" rIns="96840" tIns="48240" bIns="48240" anchor="t">
                <a:spAutoFit/>
              </a:bodyPr>
              <a:p>
                <a:pPr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ab Sty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6" name="" descr=""/>
              <p:cNvPicPr/>
              <p:nvPr/>
            </p:nvPicPr>
            <p:blipFill>
              <a:blip r:embed="rId1"/>
              <a:srcRect l="0" t="1900" r="0" b="0"/>
              <a:stretch/>
            </p:blipFill>
            <p:spPr>
              <a:xfrm>
                <a:off x="5138640" y="4767120"/>
                <a:ext cx="3056040" cy="13957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127" name=""/>
            <p:cNvGrpSpPr/>
            <p:nvPr/>
          </p:nvGrpSpPr>
          <p:grpSpPr>
            <a:xfrm>
              <a:off x="225360" y="1711440"/>
              <a:ext cx="8898120" cy="2925360"/>
              <a:chOff x="225360" y="1711440"/>
              <a:chExt cx="8898120" cy="2925360"/>
            </a:xfrm>
          </p:grpSpPr>
          <p:pic>
            <p:nvPicPr>
              <p:cNvPr id="12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11600" y="1711440"/>
                <a:ext cx="4821120" cy="229716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1455840" y="1878120"/>
                <a:ext cx="1217520" cy="47448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17520" y="1733400"/>
                <a:ext cx="1301760" cy="24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8240" bIns="48240" anchor="t">
                <a:spAutoFit/>
              </a:bodyPr>
              <a:p>
                <a:pPr algn="ctr"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ist Header Tex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1724040" y="2448000"/>
                <a:ext cx="520920" cy="59832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25360" y="2933640"/>
                <a:ext cx="1575000" cy="24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8240" bIns="48240" anchor="t">
                <a:spAutoFit/>
              </a:bodyPr>
              <a:p>
                <a:pPr algn="ctr"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ist Header Backgroun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6577200" y="2473200"/>
                <a:ext cx="949320" cy="14472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416720" y="2351160"/>
                <a:ext cx="1482840" cy="24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8240" bIns="48240" anchor="t">
                <a:spAutoFit/>
              </a:bodyPr>
              <a:p>
                <a:pPr algn="ctr"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lumn Header Tex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692680" y="2631960"/>
                <a:ext cx="1562400" cy="75096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067520" y="3268800"/>
                <a:ext cx="2055960" cy="24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8240" bIns="48240" anchor="t">
                <a:spAutoFit/>
              </a:bodyPr>
              <a:p>
                <a:pPr algn="ctr"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lumn Header Backgroun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2989440" y="2940120"/>
                <a:ext cx="560160" cy="155880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33400" y="4387680"/>
                <a:ext cx="2587680" cy="24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8240" bIns="48240" anchor="t">
                <a:spAutoFit/>
              </a:bodyPr>
              <a:p>
                <a:pPr algn="ctr"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ighlighted Page Backgroun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" name=""/>
          <p:cNvSpPr/>
          <p:nvPr/>
        </p:nvSpPr>
        <p:spPr>
          <a:xfrm>
            <a:off x="121680" y="6411960"/>
            <a:ext cx="94755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lso use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obal Link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ctions of the Theme Detail page to add customized global links and logos to your the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09:57Z</dcterms:created>
  <dc:creator>David Schock</dc:creator>
  <dc:description/>
  <dc:language>en-US</dc:language>
  <cp:lastModifiedBy>Peter Piccaro</cp:lastModifiedBy>
  <dcterms:modified xsi:type="dcterms:W3CDTF">2009-11-18T22:15:06Z</dcterms:modified>
  <cp:revision>255</cp:revision>
  <dc:subject/>
  <dc:title>Slide 1</dc:title>
</cp:coreProperties>
</file>